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ED42-17F5-48AE-B6C0-E773453D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BCE7-E53E-4129-8223-EB822F7B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5622-63DE-4FF5-B68A-8082A900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430F-936A-411B-9EEE-9F20EE1F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6269-1789-4ED3-9DDE-490667CCD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6A03-0C91-428D-94DC-1474A47F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A360-A858-45C6-B877-448CA3AF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2CF8-0DE3-43E1-8B32-46F64997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8B4F-BCEF-4FE9-9228-BDD20F4D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A2BA-EEB6-4561-9AB7-ED1B1D3A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6849-0A48-43E1-AA67-6A337783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E60B-B60D-4FC8-8300-6DF8B3CD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FC2D-7524-43B0-B2C6-1D3A51AB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2724-0B07-4A82-9FCB-9EB4DEB0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1A95-298B-43C4-AB9C-84EA2AFC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DFB7-632A-41B6-A1E5-EC8AA36E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32F0-4B21-4618-BAEF-A67A6C60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AD84-2CDC-4E5C-B4CE-F3D45D94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54B6-8FD6-4F23-B500-ACEC69E7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9463-C042-4521-BC06-D69286CA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0846-F420-4C38-A20D-2BD201A1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9542-F6E0-476C-8587-39E89FFC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164C-07D8-41F8-B3C9-A5C93480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95F6-E5D2-4484-B0FF-CC0EE9D8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F9BA-0A1E-430F-BDA5-86A215FB719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0445-DB54-43A8-A636-BEC934C5E53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476360" y="1989000"/>
            <a:ext cx="705636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Смежные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углы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4218120"/>
            <a:ext cx="2604960" cy="263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4465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cc"/>
                </a:solidFill>
                <a:latin typeface="Comic Sans MS"/>
              </a:rPr>
              <a:t>№ </a:t>
            </a:r>
            <a:r>
              <a:rPr b="1" lang="en-US" sz="7200" spc="-1" strike="noStrike">
                <a:solidFill>
                  <a:srgbClr val="0000cc"/>
                </a:solidFill>
                <a:latin typeface="Comic Sans MS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2843280" y="537372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Най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467880" y="3645000"/>
            <a:ext cx="1119240" cy="71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83" y="18"/>
                </a:moveTo>
                <a:arcTo wR="10800" hR="10800" stAng="-5596501" swAng="2665213"/>
                <a:lnTo>
                  <a:pt x="10800" y="10800"/>
                </a:lnTo>
                <a:close/>
              </a:path>
              <a:path fill="none" w="21600" h="21600">
                <a:moveTo>
                  <a:pt x="10183" y="18"/>
                </a:moveTo>
                <a:arcTo wR="10800" hR="10800" stAng="-5596501" swAng="2665213"/>
              </a:path>
            </a:pathLst>
          </a:custGeom>
          <a:noFill/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403280" y="407664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227640" y="414828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83280" y="227808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635280" y="414972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954680" y="5445000"/>
                <a:ext cx="17287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ВА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4211640" y="170028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1934400">
            <a:off x="3267360" y="3615120"/>
            <a:ext cx="118440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83" y="18"/>
                </a:moveTo>
                <a:arcTo wR="10800" hR="10800" stAng="-5596501" swAng="2665213"/>
                <a:lnTo>
                  <a:pt x="10800" y="10800"/>
                </a:lnTo>
                <a:close/>
              </a:path>
              <a:path fill="none" w="21600" h="21600">
                <a:moveTo>
                  <a:pt x="10183" y="18"/>
                </a:moveTo>
                <a:arcTo wR="10800" hR="10800" stAng="-5596501" swAng="2665213"/>
              </a:path>
            </a:pathLst>
          </a:custGeom>
          <a:noFill/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403280" y="1628640"/>
            <a:ext cx="5256360" cy="2519280"/>
            <a:chOff x="1403280" y="1628640"/>
            <a:chExt cx="5256360" cy="2519280"/>
          </a:xfrm>
        </p:grpSpPr>
        <p:sp>
          <p:nvSpPr>
            <p:cNvPr id="311" name=""/>
            <p:cNvSpPr/>
            <p:nvPr/>
          </p:nvSpPr>
          <p:spPr>
            <a:xfrm>
              <a:off x="1403280" y="4147920"/>
              <a:ext cx="525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922560" y="1628640"/>
              <a:ext cx="360360" cy="251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922920" y="2203200"/>
              <a:ext cx="2449440" cy="194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643280" y="3573360"/>
                <a:ext cx="8352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4465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cc"/>
                </a:solidFill>
                <a:latin typeface="Comic Sans MS"/>
              </a:rPr>
              <a:t>№ </a:t>
            </a:r>
            <a:r>
              <a:rPr b="1" lang="en-US" sz="7200" spc="-1" strike="noStrike">
                <a:solidFill>
                  <a:srgbClr val="0000cc"/>
                </a:solidFill>
                <a:latin typeface="Comic Sans MS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>
            <a:off x="2843280" y="537372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Най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7937000">
            <a:off x="3708360" y="3549960"/>
            <a:ext cx="1610640" cy="244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83" y="18"/>
                </a:moveTo>
                <a:arcTo wR="10800" hR="10800" stAng="-5596501" swAng="2955719"/>
                <a:lnTo>
                  <a:pt x="10800" y="10800"/>
                </a:lnTo>
                <a:close/>
              </a:path>
              <a:path fill="none" w="21600" h="21600">
                <a:moveTo>
                  <a:pt x="10183" y="18"/>
                </a:moveTo>
                <a:arcTo wR="10800" hR="10800" stAng="-5596501" swAng="2955719"/>
              </a:path>
            </a:pathLst>
          </a:custGeom>
          <a:noFill/>
          <a:ln w="44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620720" y="422100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084720" y="421956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0360" y="234936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2360" y="422100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943520" y="5445000"/>
                <a:ext cx="17524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ВО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4500720" y="162864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844720" y="3357720"/>
                <a:ext cx="10605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5" name=""/>
          <p:cNvGrpSpPr/>
          <p:nvPr/>
        </p:nvGrpSpPr>
        <p:grpSpPr>
          <a:xfrm>
            <a:off x="2600640" y="3260880"/>
            <a:ext cx="2148480" cy="2408760"/>
            <a:chOff x="2600640" y="3260880"/>
            <a:chExt cx="2148480" cy="2408760"/>
          </a:xfrm>
        </p:grpSpPr>
        <p:sp>
          <p:nvSpPr>
            <p:cNvPr id="326" name=""/>
            <p:cNvSpPr/>
            <p:nvPr/>
          </p:nvSpPr>
          <p:spPr>
            <a:xfrm rot="1934400">
              <a:off x="3047040" y="3493440"/>
              <a:ext cx="1184040" cy="20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83" y="18"/>
                  </a:moveTo>
                  <a:arcTo wR="10800" hR="10800" stAng="-5596501" swAng="209210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83" y="18"/>
                  </a:moveTo>
                  <a:arcTo wR="10800" hR="10800" stAng="-5596501" swAng="2092106"/>
                </a:path>
              </a:pathLst>
            </a:custGeom>
            <a:noFill/>
            <a:ln w="442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1934400">
              <a:off x="3117240" y="3421440"/>
              <a:ext cx="1185480" cy="20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83" y="18"/>
                  </a:moveTo>
                  <a:arcTo wR="10800" hR="10800" stAng="-5596501" swAng="209210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83" y="18"/>
                  </a:moveTo>
                  <a:arcTo wR="10800" hR="10800" stAng="-5596501" swAng="2092106"/>
                </a:path>
              </a:pathLst>
            </a:custGeom>
            <a:noFill/>
            <a:ln w="442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742120" y="3621240"/>
            <a:ext cx="2151720" cy="2414880"/>
            <a:chOff x="2742120" y="3621240"/>
            <a:chExt cx="2151720" cy="2414880"/>
          </a:xfrm>
        </p:grpSpPr>
        <p:sp>
          <p:nvSpPr>
            <p:cNvPr id="329" name=""/>
            <p:cNvSpPr/>
            <p:nvPr/>
          </p:nvSpPr>
          <p:spPr>
            <a:xfrm rot="1934400">
              <a:off x="3188520" y="3859920"/>
              <a:ext cx="1183680" cy="20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83" y="18"/>
                  </a:moveTo>
                  <a:arcTo wR="10800" hR="10800" stAng="-5596501" swAng="194778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83" y="18"/>
                  </a:moveTo>
                  <a:arcTo wR="10800" hR="10800" stAng="-5596501" swAng="1947785"/>
                </a:path>
              </a:pathLst>
            </a:custGeom>
            <a:noFill/>
            <a:ln w="442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934400">
              <a:off x="3261960" y="3781800"/>
              <a:ext cx="1185480" cy="20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83" y="18"/>
                  </a:moveTo>
                  <a:arcTo wR="10800" hR="10800" stAng="-5596501" swAng="209210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83" y="18"/>
                  </a:moveTo>
                  <a:arcTo wR="10800" hR="10800" stAng="-5596501" swAng="2092106"/>
                </a:path>
              </a:pathLst>
            </a:custGeom>
            <a:noFill/>
            <a:ln w="442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692360" y="1844640"/>
            <a:ext cx="5327640" cy="2376360"/>
            <a:chOff x="1692360" y="1844640"/>
            <a:chExt cx="5327640" cy="2376360"/>
          </a:xfrm>
        </p:grpSpPr>
        <p:sp>
          <p:nvSpPr>
            <p:cNvPr id="332" name=""/>
            <p:cNvSpPr/>
            <p:nvPr/>
          </p:nvSpPr>
          <p:spPr>
            <a:xfrm flipV="1">
              <a:off x="1692360" y="4219560"/>
              <a:ext cx="482436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779640" y="1844640"/>
              <a:ext cx="1439640" cy="237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780000" y="2637000"/>
              <a:ext cx="3240000" cy="1582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10920" y="333000"/>
            <a:ext cx="4465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cc"/>
                </a:solidFill>
                <a:latin typeface="Comic Sans MS"/>
              </a:rPr>
              <a:t>№ </a:t>
            </a:r>
            <a:r>
              <a:rPr b="1" lang="en-US" sz="7200" spc="-1" strike="noStrike">
                <a:solidFill>
                  <a:srgbClr val="0000cc"/>
                </a:solidFill>
                <a:latin typeface="Comic Sans MS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2016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Дано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700360" y="1557360"/>
                <a:ext cx="23112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700360" y="2349360"/>
                <a:ext cx="99864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α, 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684360" y="2349360"/>
            <a:ext cx="20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Най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01080" y="5013360"/>
            <a:ext cx="129456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471920" y="4899600"/>
            <a:ext cx="1025640" cy="1313640"/>
            <a:chOff x="4471920" y="4899600"/>
            <a:chExt cx="1025640" cy="1313640"/>
          </a:xfrm>
        </p:grpSpPr>
        <p:sp>
          <p:nvSpPr>
            <p:cNvPr id="160" name=""/>
            <p:cNvSpPr/>
            <p:nvPr/>
          </p:nvSpPr>
          <p:spPr>
            <a:xfrm rot="16767600">
              <a:off x="4799520" y="5184000"/>
              <a:ext cx="639360" cy="57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442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7218200">
              <a:off x="4407840" y="5195880"/>
              <a:ext cx="115380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0968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096880"/>
                </a:path>
              </a:pathLst>
            </a:custGeom>
            <a:noFill/>
            <a:ln w="442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629080" y="3141720"/>
            <a:ext cx="5184720" cy="2303280"/>
            <a:chOff x="2629080" y="3141720"/>
            <a:chExt cx="5184720" cy="2303280"/>
          </a:xfrm>
        </p:grpSpPr>
        <p:sp>
          <p:nvSpPr>
            <p:cNvPr id="163" name=""/>
            <p:cNvSpPr/>
            <p:nvPr/>
          </p:nvSpPr>
          <p:spPr>
            <a:xfrm>
              <a:off x="2629080" y="5445000"/>
              <a:ext cx="5184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40360" y="3141720"/>
              <a:ext cx="1223640" cy="230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651640" y="4653000"/>
                <a:ext cx="4093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284720" y="4508640"/>
                <a:ext cx="3841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10920" y="333000"/>
            <a:ext cx="4465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cc"/>
                </a:solidFill>
                <a:latin typeface="Comic Sans MS"/>
              </a:rPr>
              <a:t>№ </a:t>
            </a:r>
            <a:r>
              <a:rPr b="1" lang="en-US" sz="7200" spc="-1" strike="noStrike">
                <a:solidFill>
                  <a:srgbClr val="0000cc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2016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Дано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700360" y="1557360"/>
                <a:ext cx="23112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700360" y="2349360"/>
                <a:ext cx="99864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α, 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684360" y="2349360"/>
            <a:ext cx="20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Най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01080" y="5013360"/>
            <a:ext cx="129456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471920" y="4899600"/>
            <a:ext cx="1025640" cy="1313640"/>
            <a:chOff x="4471920" y="4899600"/>
            <a:chExt cx="1025640" cy="1313640"/>
          </a:xfrm>
        </p:grpSpPr>
        <p:sp>
          <p:nvSpPr>
            <p:cNvPr id="174" name=""/>
            <p:cNvSpPr/>
            <p:nvPr/>
          </p:nvSpPr>
          <p:spPr>
            <a:xfrm rot="16767600">
              <a:off x="4799520" y="5184000"/>
              <a:ext cx="639360" cy="57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442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7218200">
              <a:off x="4407840" y="5195880"/>
              <a:ext cx="115380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0968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096880"/>
                </a:path>
              </a:pathLst>
            </a:custGeom>
            <a:noFill/>
            <a:ln w="442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629080" y="3141720"/>
            <a:ext cx="5184720" cy="2303280"/>
            <a:chOff x="2629080" y="3141720"/>
            <a:chExt cx="5184720" cy="2303280"/>
          </a:xfrm>
        </p:grpSpPr>
        <p:sp>
          <p:nvSpPr>
            <p:cNvPr id="177" name=""/>
            <p:cNvSpPr/>
            <p:nvPr/>
          </p:nvSpPr>
          <p:spPr>
            <a:xfrm>
              <a:off x="2629080" y="5445000"/>
              <a:ext cx="5184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40360" y="3141720"/>
              <a:ext cx="1223640" cy="230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651640" y="4653000"/>
                <a:ext cx="4093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284720" y="4508640"/>
                <a:ext cx="3841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10920" y="333000"/>
            <a:ext cx="4465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cc"/>
                </a:solidFill>
                <a:latin typeface="Comic Sans MS"/>
              </a:rPr>
              <a:t>№ </a:t>
            </a:r>
            <a:r>
              <a:rPr b="1" lang="en-US" sz="7200" spc="-1" strike="noStrike">
                <a:solidFill>
                  <a:srgbClr val="0000cc"/>
                </a:solidFill>
                <a:latin typeface="Comic Sans MS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2163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Дано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843280" y="1557360"/>
                <a:ext cx="13446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700360" y="2349360"/>
                <a:ext cx="99864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α, 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684360" y="2349360"/>
            <a:ext cx="20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Най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7647800">
            <a:off x="4420800" y="5144760"/>
            <a:ext cx="129456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276080" y="4401000"/>
            <a:ext cx="1524600" cy="1437480"/>
            <a:chOff x="4276080" y="4401000"/>
            <a:chExt cx="1524600" cy="1437480"/>
          </a:xfrm>
        </p:grpSpPr>
        <p:sp>
          <p:nvSpPr>
            <p:cNvPr id="188" name=""/>
            <p:cNvSpPr/>
            <p:nvPr/>
          </p:nvSpPr>
          <p:spPr>
            <a:xfrm rot="1327200">
              <a:off x="4856400" y="5013720"/>
              <a:ext cx="64080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442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2382600">
              <a:off x="4345560" y="4760640"/>
              <a:ext cx="1385280" cy="71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94" y="167"/>
                  </a:moveTo>
                  <a:arcTo wR="10800" hR="10800" stAng="-4793958" swAng="35240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94" y="167"/>
                  </a:moveTo>
                  <a:arcTo wR="10800" hR="10800" stAng="-4793958" swAng="3524073"/>
                </a:path>
              </a:pathLst>
            </a:custGeom>
            <a:noFill/>
            <a:ln w="442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268360" y="5445000"/>
            <a:ext cx="518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003640" y="3213000"/>
            <a:ext cx="1656000" cy="22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356000" y="4437000"/>
                <a:ext cx="4096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24360" y="4653000"/>
                <a:ext cx="3844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10920" y="333000"/>
            <a:ext cx="4465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cc"/>
                </a:solidFill>
                <a:latin typeface="Comic Sans MS"/>
              </a:rPr>
              <a:t>№ </a:t>
            </a:r>
            <a:r>
              <a:rPr b="1" lang="en-US" sz="7200" spc="-1" strike="noStrike">
                <a:solidFill>
                  <a:srgbClr val="0000cc"/>
                </a:solidFill>
                <a:latin typeface="Comic Sans MS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2163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Дано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700360" y="1557360"/>
                <a:ext cx="2259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:</m:t>
                    </m:r>
                    <m:r>
                      <m:t xml:space="preserve">β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: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700360" y="2349360"/>
                <a:ext cx="99864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α, 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684360" y="2349360"/>
            <a:ext cx="20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Най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6767600">
            <a:off x="4799160" y="5183640"/>
            <a:ext cx="64080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356000" y="4724280"/>
                <a:ext cx="4096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5580000" y="4292640"/>
                <a:ext cx="3841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2" name=""/>
          <p:cNvGrpSpPr/>
          <p:nvPr/>
        </p:nvGrpSpPr>
        <p:grpSpPr>
          <a:xfrm>
            <a:off x="4213440" y="4941720"/>
            <a:ext cx="1726560" cy="864000"/>
            <a:chOff x="4213440" y="4941720"/>
            <a:chExt cx="1726560" cy="864000"/>
          </a:xfrm>
        </p:grpSpPr>
        <p:sp>
          <p:nvSpPr>
            <p:cNvPr id="203" name=""/>
            <p:cNvSpPr/>
            <p:nvPr/>
          </p:nvSpPr>
          <p:spPr>
            <a:xfrm>
              <a:off x="4500720" y="5083920"/>
              <a:ext cx="1294920" cy="72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559" y="27"/>
                  </a:moveTo>
                  <a:arcTo wR="10800" hR="10800" stAng="-5158253" swAng="51582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559" y="27"/>
                  </a:moveTo>
                  <a:arcTo wR="10800" hR="10800" stAng="-5158253" swAng="5158253"/>
                </a:path>
              </a:pathLst>
            </a:custGeom>
            <a:noFill/>
            <a:ln w="442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13440" y="4941720"/>
              <a:ext cx="1726560" cy="86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0615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061592"/>
                </a:path>
              </a:pathLst>
            </a:custGeom>
            <a:noFill/>
            <a:ln w="442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629080" y="3141720"/>
            <a:ext cx="5184720" cy="2303280"/>
            <a:chOff x="2629080" y="3141720"/>
            <a:chExt cx="5184720" cy="2303280"/>
          </a:xfrm>
        </p:grpSpPr>
        <p:sp>
          <p:nvSpPr>
            <p:cNvPr id="206" name=""/>
            <p:cNvSpPr/>
            <p:nvPr/>
          </p:nvSpPr>
          <p:spPr>
            <a:xfrm>
              <a:off x="2629080" y="5445000"/>
              <a:ext cx="5184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40360" y="3141720"/>
              <a:ext cx="1223640" cy="230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10920" y="333000"/>
            <a:ext cx="4465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cc"/>
                </a:solidFill>
                <a:latin typeface="Comic Sans MS"/>
              </a:rPr>
              <a:t>№ </a:t>
            </a:r>
            <a:r>
              <a:rPr b="1" lang="en-US" sz="7200" spc="-1" strike="noStrike">
                <a:solidFill>
                  <a:srgbClr val="0000cc"/>
                </a:solidFill>
                <a:latin typeface="Comic Sans MS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2163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Дано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348000" y="1628640"/>
                <a:ext cx="18716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250920" y="2349360"/>
            <a:ext cx="302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Доказа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7647800">
            <a:off x="2401200" y="5121720"/>
            <a:ext cx="1008360" cy="94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428" y="87"/>
                </a:moveTo>
                <a:arcTo wR="10800" hR="10800" stAng="-5837757" swAng="5822342"/>
                <a:lnTo>
                  <a:pt x="10800" y="10800"/>
                </a:lnTo>
                <a:close/>
              </a:path>
              <a:path fill="none" w="21600" h="21600">
                <a:moveTo>
                  <a:pt x="9428" y="87"/>
                </a:moveTo>
                <a:arcTo wR="10800" hR="10800" stAng="-5837757" swAng="5822342"/>
              </a:path>
            </a:pathLst>
          </a:custGeom>
          <a:noFill/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986360" y="4928040"/>
            <a:ext cx="1445040" cy="1666440"/>
            <a:chOff x="4986360" y="4928040"/>
            <a:chExt cx="1445040" cy="1666440"/>
          </a:xfrm>
        </p:grpSpPr>
        <p:sp>
          <p:nvSpPr>
            <p:cNvPr id="214" name=""/>
            <p:cNvSpPr/>
            <p:nvPr/>
          </p:nvSpPr>
          <p:spPr>
            <a:xfrm rot="17166600">
              <a:off x="5607720" y="5252760"/>
              <a:ext cx="704160" cy="5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442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8222000">
              <a:off x="4947840" y="5400000"/>
              <a:ext cx="1521360" cy="72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94" y="167"/>
                  </a:moveTo>
                  <a:arcTo wR="10800" hR="10800" stAng="-4793958" swAng="35240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94" y="167"/>
                  </a:moveTo>
                  <a:arcTo wR="10800" hR="10800" stAng="-4793958" swAng="3524073"/>
                </a:path>
              </a:pathLst>
            </a:custGeom>
            <a:noFill/>
            <a:ln w="442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548080" y="4444920"/>
                <a:ext cx="2808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708360" y="4797360"/>
                <a:ext cx="3380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348000" y="2421000"/>
                <a:ext cx="19018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 rot="20784000">
            <a:off x="5633280" y="5058720"/>
            <a:ext cx="1007640" cy="9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428" y="87"/>
                </a:moveTo>
                <a:arcTo wR="10800" hR="10800" stAng="-5837757" swAng="5822342"/>
                <a:lnTo>
                  <a:pt x="10800" y="10800"/>
                </a:lnTo>
                <a:close/>
              </a:path>
              <a:path fill="none" w="21600" h="21600">
                <a:moveTo>
                  <a:pt x="9428" y="87"/>
                </a:moveTo>
                <a:arcTo wR="10800" hR="10800" stAng="-5837757" swAng="5822342"/>
              </a:path>
            </a:pathLst>
          </a:custGeom>
          <a:noFill/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6392880" y="4437000"/>
                <a:ext cx="3826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1" name=""/>
          <p:cNvGrpSpPr/>
          <p:nvPr/>
        </p:nvGrpSpPr>
        <p:grpSpPr>
          <a:xfrm>
            <a:off x="2174400" y="4735800"/>
            <a:ext cx="1671480" cy="1166040"/>
            <a:chOff x="2174400" y="4735800"/>
            <a:chExt cx="1671480" cy="1166040"/>
          </a:xfrm>
        </p:grpSpPr>
        <p:sp>
          <p:nvSpPr>
            <p:cNvPr id="222" name=""/>
            <p:cNvSpPr/>
            <p:nvPr/>
          </p:nvSpPr>
          <p:spPr>
            <a:xfrm rot="50400">
              <a:off x="2777760" y="5155200"/>
              <a:ext cx="704160" cy="5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442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105800">
              <a:off x="2249280" y="4957560"/>
              <a:ext cx="1521360" cy="72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94" y="167"/>
                  </a:moveTo>
                  <a:arcTo wR="10800" hR="10800" stAng="-4793958" swAng="35240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94" y="167"/>
                  </a:moveTo>
                  <a:arcTo wR="10800" hR="10800" stAng="-4793958" swAng="3524073"/>
                </a:path>
              </a:pathLst>
            </a:custGeom>
            <a:noFill/>
            <a:ln w="442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908000" y="4076280"/>
            <a:ext cx="5545440" cy="1368720"/>
            <a:chOff x="1908000" y="4076280"/>
            <a:chExt cx="5545440" cy="1368720"/>
          </a:xfrm>
        </p:grpSpPr>
        <p:sp>
          <p:nvSpPr>
            <p:cNvPr id="225" name=""/>
            <p:cNvSpPr/>
            <p:nvPr/>
          </p:nvSpPr>
          <p:spPr>
            <a:xfrm>
              <a:off x="1908000" y="5445000"/>
              <a:ext cx="5545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2771280" y="4076640"/>
              <a:ext cx="1729080" cy="1368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>
              <a:off x="4500360" y="4076280"/>
              <a:ext cx="1942920" cy="1368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230800" y="4857840"/>
                <a:ext cx="3160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410920" y="333000"/>
            <a:ext cx="4465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cc"/>
                </a:solidFill>
                <a:latin typeface="Comic Sans MS"/>
              </a:rPr>
              <a:t>№ </a:t>
            </a:r>
            <a:r>
              <a:rPr b="1" lang="en-US" sz="7200" spc="-1" strike="noStrike">
                <a:solidFill>
                  <a:srgbClr val="0000cc"/>
                </a:solidFill>
                <a:latin typeface="Comic Sans MS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2016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Дано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539640" y="1989000"/>
                <a:ext cx="295128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1187280" y="4508640"/>
            <a:ext cx="29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Доказа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8772600">
            <a:off x="4368240" y="1911960"/>
            <a:ext cx="88128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428" y="87"/>
                </a:moveTo>
                <a:arcTo wR="10800" hR="10800" stAng="-5837757" swAng="5822342"/>
                <a:lnTo>
                  <a:pt x="10800" y="10800"/>
                </a:lnTo>
                <a:close/>
              </a:path>
              <a:path fill="none" w="21600" h="21600">
                <a:moveTo>
                  <a:pt x="9428" y="87"/>
                </a:moveTo>
                <a:arcTo wR="10800" hR="10800" stAng="-5837757" swAng="5822342"/>
              </a:path>
            </a:pathLst>
          </a:custGeom>
          <a:noFill/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643280" y="2708280"/>
                <a:ext cx="2811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4140360" y="4653000"/>
                <a:ext cx="3840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ВС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С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372360" y="2852640"/>
                <a:ext cx="33804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7" name=""/>
          <p:cNvGrpSpPr/>
          <p:nvPr/>
        </p:nvGrpSpPr>
        <p:grpSpPr>
          <a:xfrm>
            <a:off x="4776120" y="3284640"/>
            <a:ext cx="1739880" cy="1038960"/>
            <a:chOff x="4776120" y="3284640"/>
            <a:chExt cx="1739880" cy="1038960"/>
          </a:xfrm>
        </p:grpSpPr>
        <p:sp>
          <p:nvSpPr>
            <p:cNvPr id="238" name=""/>
            <p:cNvSpPr/>
            <p:nvPr/>
          </p:nvSpPr>
          <p:spPr>
            <a:xfrm rot="21375000">
              <a:off x="5265360" y="3466440"/>
              <a:ext cx="1102680" cy="82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6596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659630"/>
                </a:path>
              </a:pathLst>
            </a:custGeom>
            <a:noFill/>
            <a:ln w="442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76120" y="3284640"/>
              <a:ext cx="1739880" cy="98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80" y="31"/>
                  </a:moveTo>
                  <a:arcTo wR="10800" hR="10800" stAng="-5661318" swAng="5661318"/>
                  <a:lnTo>
                    <a:pt x="10800" y="10800"/>
                  </a:lnTo>
                  <a:close/>
                </a:path>
                <a:path fill="none" w="21600" h="21600">
                  <a:moveTo>
                    <a:pt x="9980" y="31"/>
                  </a:moveTo>
                  <a:arcTo wR="10800" hR="10800" stAng="-5661318" swAng="5661318"/>
                </a:path>
              </a:pathLst>
            </a:custGeom>
            <a:noFill/>
            <a:ln w="442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43280" y="3789360"/>
            <a:ext cx="5113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634920" y="1268280"/>
            <a:ext cx="1584360" cy="252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4716360" y="2060640"/>
            <a:ext cx="1152720" cy="172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68360" y="357336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140360" y="155736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51640" y="386064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26828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96360" y="378936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140360" y="5229360"/>
                <a:ext cx="37447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DBC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BCE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4465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cc"/>
                </a:solidFill>
                <a:latin typeface="Comic Sans MS"/>
              </a:rPr>
              <a:t>№ </a:t>
            </a:r>
            <a:r>
              <a:rPr b="1" lang="en-US" sz="7200" spc="-1" strike="noStrike">
                <a:solidFill>
                  <a:srgbClr val="0000cc"/>
                </a:solidFill>
                <a:latin typeface="Comic Sans MS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050560" y="4724280"/>
            <a:ext cx="21639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Дано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2484360" y="5516640"/>
            <a:ext cx="40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ahoma"/>
              </a:rPr>
              <a:t>Найти</a:t>
            </a: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8000"/>
                </a:solidFill>
                <a:latin typeface="Tahoma"/>
              </a:rPr>
              <a:t>ошиб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6767600">
            <a:off x="1830600" y="3562200"/>
            <a:ext cx="640800" cy="83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0839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08398"/>
              </a:path>
            </a:pathLst>
          </a:custGeom>
          <a:noFill/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547640" y="3214800"/>
                <a:ext cx="2811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771640" y="3075120"/>
                <a:ext cx="38448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5" name=""/>
          <p:cNvGrpSpPr/>
          <p:nvPr/>
        </p:nvGrpSpPr>
        <p:grpSpPr>
          <a:xfrm>
            <a:off x="1402200" y="3430440"/>
            <a:ext cx="1440720" cy="864000"/>
            <a:chOff x="1402200" y="3430440"/>
            <a:chExt cx="1440720" cy="864000"/>
          </a:xfrm>
        </p:grpSpPr>
        <p:sp>
          <p:nvSpPr>
            <p:cNvPr id="256" name=""/>
            <p:cNvSpPr/>
            <p:nvPr/>
          </p:nvSpPr>
          <p:spPr>
            <a:xfrm>
              <a:off x="1641960" y="3572640"/>
              <a:ext cx="1080360" cy="72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559" y="27"/>
                  </a:moveTo>
                  <a:arcTo wR="10800" hR="10800" stAng="-5158253" swAng="51582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559" y="27"/>
                  </a:moveTo>
                  <a:arcTo wR="10800" hR="10800" stAng="-5158253" swAng="5158253"/>
                </a:path>
              </a:pathLst>
            </a:custGeom>
            <a:noFill/>
            <a:ln w="442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2200" y="3430440"/>
              <a:ext cx="1440720" cy="86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0615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061592"/>
                </a:path>
              </a:pathLst>
            </a:custGeom>
            <a:noFill/>
            <a:ln w="442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39640" y="3933720"/>
            <a:ext cx="3527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690560" y="1630440"/>
            <a:ext cx="576360" cy="23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2200" y="386244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7280" y="393228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14560" y="155880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79640" y="386244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16767600">
            <a:off x="6152040" y="2912760"/>
            <a:ext cx="640800" cy="83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0839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08398"/>
              </a:path>
            </a:pathLst>
          </a:custGeom>
          <a:noFill/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830920" y="2552760"/>
                <a:ext cx="3589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7093080" y="2425680"/>
                <a:ext cx="3841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7" name=""/>
          <p:cNvGrpSpPr/>
          <p:nvPr/>
        </p:nvGrpSpPr>
        <p:grpSpPr>
          <a:xfrm>
            <a:off x="6083280" y="2781360"/>
            <a:ext cx="1009440" cy="864000"/>
            <a:chOff x="6083280" y="2781360"/>
            <a:chExt cx="1009440" cy="864000"/>
          </a:xfrm>
        </p:grpSpPr>
        <p:sp>
          <p:nvSpPr>
            <p:cNvPr id="268" name=""/>
            <p:cNvSpPr/>
            <p:nvPr/>
          </p:nvSpPr>
          <p:spPr>
            <a:xfrm>
              <a:off x="6251040" y="2923560"/>
              <a:ext cx="757080" cy="72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559" y="27"/>
                  </a:moveTo>
                  <a:arcTo wR="10800" hR="10800" stAng="-5158253" swAng="51582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559" y="27"/>
                  </a:moveTo>
                  <a:arcTo wR="10800" hR="10800" stAng="-5158253" swAng="5158253"/>
                </a:path>
              </a:pathLst>
            </a:custGeom>
            <a:noFill/>
            <a:ln w="442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83280" y="2781360"/>
              <a:ext cx="1009440" cy="86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0615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061592"/>
                </a:path>
              </a:pathLst>
            </a:custGeom>
            <a:noFill/>
            <a:ln w="442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861080" y="3284640"/>
            <a:ext cx="352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981000"/>
            <a:ext cx="720720" cy="230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43280" y="321300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28000" y="321300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64000" y="98100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300720" y="321300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516720" y="981000"/>
            <a:ext cx="71280" cy="230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588000" y="76500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4067280" y="4797360"/>
                <a:ext cx="40082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2, </m:t>
                    </m:r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4465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cc"/>
                </a:solidFill>
                <a:latin typeface="Comic Sans MS"/>
              </a:rPr>
              <a:t>№ </a:t>
            </a:r>
            <a:r>
              <a:rPr b="1" lang="en-US" sz="7200" spc="-1" strike="noStrike">
                <a:solidFill>
                  <a:srgbClr val="0000cc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"/>
          <p:cNvSpPr/>
          <p:nvPr/>
        </p:nvSpPr>
        <p:spPr>
          <a:xfrm>
            <a:off x="2843280" y="537372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ahoma"/>
              </a:rPr>
              <a:t>Най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8942000">
            <a:off x="3854520" y="3732840"/>
            <a:ext cx="1081080" cy="72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559" y="27"/>
                </a:moveTo>
                <a:arcTo wR="10800" hR="10800" stAng="-5158253" swAng="2681641"/>
                <a:lnTo>
                  <a:pt x="10800" y="10800"/>
                </a:lnTo>
                <a:close/>
              </a:path>
              <a:path fill="none" w="21600" h="21600">
                <a:moveTo>
                  <a:pt x="11559" y="27"/>
                </a:moveTo>
                <a:arcTo wR="10800" hR="10800" stAng="-5158253" swAng="2681641"/>
              </a:path>
            </a:pathLst>
          </a:custGeom>
          <a:noFill/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005360" y="3716280"/>
            <a:ext cx="111816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83" y="18"/>
                </a:moveTo>
                <a:arcTo wR="10800" hR="10800" stAng="-5596501" swAng="2665213"/>
                <a:lnTo>
                  <a:pt x="10800" y="10800"/>
                </a:lnTo>
                <a:close/>
              </a:path>
              <a:path fill="none" w="21600" h="21600">
                <a:moveTo>
                  <a:pt x="10183" y="18"/>
                </a:moveTo>
                <a:arcTo wR="10800" hR="10800" stAng="-5596501" swAng="2665213"/>
              </a:path>
            </a:pathLst>
          </a:custGeom>
          <a:noFill/>
          <a:ln w="44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908000" y="414828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732720" y="421956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00360" y="170028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40360" y="414828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4930920" y="5445000"/>
                <a:ext cx="17762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DO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4716360" y="177156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59640" y="241920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8942000">
            <a:off x="3854520" y="3588480"/>
            <a:ext cx="1081080" cy="72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559" y="27"/>
                </a:moveTo>
                <a:arcTo wR="10800" hR="10800" stAng="-5158253" swAng="2681641"/>
                <a:lnTo>
                  <a:pt x="10800" y="10800"/>
                </a:lnTo>
                <a:close/>
              </a:path>
              <a:path fill="none" w="21600" h="21600">
                <a:moveTo>
                  <a:pt x="11559" y="27"/>
                </a:moveTo>
                <a:arcTo wR="10800" hR="10800" stAng="-5158253" swAng="2681641"/>
              </a:path>
            </a:pathLst>
          </a:custGeom>
          <a:noFill/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682800" y="3741120"/>
            <a:ext cx="1098360" cy="1066320"/>
            <a:chOff x="3682800" y="3741120"/>
            <a:chExt cx="1098360" cy="1066320"/>
          </a:xfrm>
        </p:grpSpPr>
        <p:sp>
          <p:nvSpPr>
            <p:cNvPr id="292" name=""/>
            <p:cNvSpPr/>
            <p:nvPr/>
          </p:nvSpPr>
          <p:spPr>
            <a:xfrm rot="16767600">
              <a:off x="3993480" y="3848040"/>
              <a:ext cx="640080" cy="84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4330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433070"/>
                </a:path>
              </a:pathLst>
            </a:custGeom>
            <a:noFill/>
            <a:ln w="442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6767600">
              <a:off x="3704040" y="3853800"/>
              <a:ext cx="941040" cy="84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0558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055828"/>
                </a:path>
              </a:pathLst>
            </a:custGeom>
            <a:noFill/>
            <a:ln w="442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 rot="1934400">
            <a:off x="3772080" y="3686400"/>
            <a:ext cx="118440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83" y="18"/>
                </a:moveTo>
                <a:arcTo wR="10800" hR="10800" stAng="-5596501" swAng="2665213"/>
                <a:lnTo>
                  <a:pt x="10800" y="10800"/>
                </a:lnTo>
                <a:close/>
              </a:path>
              <a:path fill="none" w="21600" h="21600">
                <a:moveTo>
                  <a:pt x="10183" y="18"/>
                </a:moveTo>
                <a:arcTo wR="10800" hR="10800" stAng="-5596501" swAng="2665213"/>
              </a:path>
            </a:pathLst>
          </a:custGeom>
          <a:noFill/>
          <a:ln w="44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908000" y="1700280"/>
            <a:ext cx="5256360" cy="2519280"/>
            <a:chOff x="1908000" y="1700280"/>
            <a:chExt cx="5256360" cy="2519280"/>
          </a:xfrm>
        </p:grpSpPr>
        <p:sp>
          <p:nvSpPr>
            <p:cNvPr id="296" name=""/>
            <p:cNvSpPr/>
            <p:nvPr/>
          </p:nvSpPr>
          <p:spPr>
            <a:xfrm>
              <a:off x="1908000" y="4219560"/>
              <a:ext cx="525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32000" y="1700280"/>
              <a:ext cx="1295640" cy="251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4427280" y="1700280"/>
              <a:ext cx="360360" cy="251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4427640" y="2274840"/>
              <a:ext cx="2449440" cy="1944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1T04:22:10Z</dcterms:created>
  <dc:creator>Unknown</dc:creator>
  <dc:description/>
  <dc:language>en-US</dc:language>
  <cp:lastModifiedBy>Unknown</cp:lastModifiedBy>
  <dcterms:modified xsi:type="dcterms:W3CDTF">2009-11-29T14:40:11Z</dcterms:modified>
  <cp:revision>3</cp:revision>
  <dc:subject/>
  <dc:title>Слайд 1</dc:title>
</cp:coreProperties>
</file>